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FCC68-2EDD-4BA0-8AA1-E4588B14E7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D876B-2687-479F-B7ED-030541662E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25A9E-658A-492C-BCB1-24E85D8078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57C03-4680-43D2-B1DD-65A222E470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5CBD3-B576-418E-8612-B43DA72625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57FCC-4FAE-400F-BE75-DB8479978F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D8F1E-71A5-4F97-A3A0-B96837B623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CBAB2-5F14-4CD9-94D7-8ED0CFA141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1A9DE-B66F-4044-940F-40F0612C0A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EAF10-C142-4C30-B8F4-8D9B8B7C85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41B1C-E4E8-49DA-923C-91E0BFB16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44928-698D-4FEC-8105-08E34F6E31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EB0B-0DF2-4EDF-BE39-4C74C5B17F0F}" type="slidenum">
              <a:rPr b="0" lang="en-US" sz="1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Verbalne i Neverbaln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Komunikacije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072040" y="4214880"/>
            <a:ext cx="323676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mart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2B44-630A-4614-90C6-6FC96EE6A13C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Masovni Medij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ovni mediji (tv,radio,novine,internet ...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 mediji spadaju pod verbalane komunikacije i u današnje vreme pretstvaljaju bitan deo života svakog čoveka (informisanost)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lici mas medija mogu biti usmeni (tv, radio) ili pismeni (novine, www) ali su u oba slučaja posredni 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EB62-A906-4F54-9974-7FA9A1AF738E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adr</a:t>
            </a: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žaj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komunikacija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omunikacioni znakovi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del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EE17-815A-4188-8AB3-BCB9B375E870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reklo reči komunikacija je od lat. reči “communicatio” ili “communicare” što znači saopštiti ili saopštavat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je sastavni deo svakog kontakta među ljudima, a njen najrazvijeniji oblik je govor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d pojmom 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od ljudi podrazumevam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renošenje poruka putem znakov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stoje dve vrste komunikacijskih znakov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mbo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gna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2A8E-FB65-4B2E-9123-C38456EC2FFA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oni znakov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mbol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znaci koji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amerno i 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upućuju da bi se drugima nešto saopštil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znaci su npr. reči i rečenice u razgovoru.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gnali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u znaci koji se javljaju spontano tj.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namerno i ne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 Nazivamo ih i </a:t>
            </a:r>
            <a:r>
              <a:rPr b="0" i="1" lang="sr-Latn-CS" sz="2400" spc="-1" strike="noStrike">
                <a:solidFill>
                  <a:srgbClr val="4d4d4d"/>
                </a:solidFill>
                <a:latin typeface="Arial"/>
              </a:rPr>
              <a:t>ekspresivnim znakovim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su npr. bledilo ili rumenilo lica ili neka grimasa i pokret kao izraz uzbuđenja a ne namernog ponašan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5661-FDE3-4F25-A85E-60E2CB83001A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Podel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317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rema vrsti znakova koji se koriste razlikujemo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Komunikaciju simbolima (svesno, namer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Ekspresivnu komunikaciju (nesveno, sponta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Ukoliko se za komuniciranje koriste neka tehnička 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redstva takva 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osredn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posredn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ad nema tehničkih sredstav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ajvažnija podela komunikacije je n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Ne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F0B7-FFF9-4EF4-92CD-71C3AE9E6EEB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a je komunikacija pri kojoj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 koriste reč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među ljudima je puna neverbalnih komunikacionih znakova a bez njih bi ona bila mnogo siromašnija, nepotpunija i teže bi se odvijal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om komunikacijom se izražavaju prvenstveno emocije i stavovi učesnika u komunikacij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utem neverbalne komunikacije mi možemo da vidimo reagovanja slušaoca a da nam on ništa ni ne kaže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AB1B-8AB3-456A-9785-90353562DEB4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209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ropratne glasovne odlike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vrsta neverbalnih znakov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Ustvari to nisu pravi govorni znaci (kao reči) već karakteristike pri izgovaranju reči i rečenica npr. razlike u brzini, intenzitetu i ritmu izgovaranja (npr. kod homonima)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Ekstralingvistički komunikacioni znac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oni koji nisu sastvaljeni ni od osnovnih ni propratnih glasovnih draži,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a uglavnom se odnose na pokrete i facijalnu ekspresiju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Pod facijalnom ekspresijom podrazumevamo razne izraze lica izazvanom pokretima mišića lic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124E-4741-45B9-8F1F-4FD29EC4D42C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- Verbalna 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je ona koja se odvija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utem reć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i sklopova reči određenog jezik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Verbalna komunikacija je najbogatija i najrazvijenija simbolička komunikacija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ako svaki jezik raspolaže sa stotinama hiljada reći, i mogućnostima njihovog menjanja i kombinovanja, verbalna komunikacija predstavalja gotov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ograničenu mogućnost kombinovanja znakov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, formulisanja i saopštavanja složenih sadrža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820D-E1D3-49B6-9182-B20A8CE6DA48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Verbalna komunikacija počiva na sposobnosti čoveka da proizvodi veći broj glasova koji se povezuju u skupove glasova ili reči.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Na izgovaranju glasova počiva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u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, dok je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pi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slonjenja na slova tj. grafički prikaz glasov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 114/06</dc:creator>
  <dc:description/>
  <dc:language>en-US</dc:language>
  <cp:lastModifiedBy>HOME</cp:lastModifiedBy>
  <dcterms:modified xsi:type="dcterms:W3CDTF">2008-02-02T11:01:50Z</dcterms:modified>
  <cp:revision>20</cp:revision>
  <dc:subject>Komunikacije</dc:subject>
  <dc:title>Verbalne i Neverbalne Komunikaci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